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5E6-364D-4F73-9519-CA6B0CCA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9BF-FE4F-41BE-B116-855343B1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B2C-E7C9-42ED-94B7-C5A8D5A2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809-D3E5-43EB-9B72-50CBBD02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773-4DC2-4B3C-A2F0-8738B9A4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6E7-4E2E-4FDA-8653-85B15D7E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A89-CFC6-4CB0-8F0D-DC940A64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BC3-C849-494E-98E3-E064751C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944-5F7C-44E3-9CC4-43C429C4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7BC-38D3-48A8-B787-B4C287AA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525-714D-40C7-A3DC-92DB4F7A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FAB-CECB-42AC-9507-BF9DF76B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měťová mé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2BF-9CFF-4BDD-92B2-D5D356C3F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vd" TargetMode="External"/><Relationship Id="rId2" Type="http://schemas.openxmlformats.org/officeDocument/2006/relationships/hyperlink" Target="http://en.wikipedia.org/wiki/Dvd" TargetMode="External"/><Relationship Id="rId3" Type="http://schemas.openxmlformats.org/officeDocument/2006/relationships/hyperlink" Target="http://en.wikipedia.org/wiki/Dvd" TargetMode="External"/><Relationship Id="rId4" Type="http://schemas.openxmlformats.org/officeDocument/2006/relationships/hyperlink" Target="http://en.wikipedia.org/wiki/Dvd" TargetMode="External"/><Relationship Id="rId5" Type="http://schemas.openxmlformats.org/officeDocument/2006/relationships/hyperlink" Target="http://en.wikipedia.org/wiki/Dvd" TargetMode="External"/><Relationship Id="rId6" Type="http://schemas.openxmlformats.org/officeDocument/2006/relationships/hyperlink" Target="http://en.wikipedia.org/wiki/Dvd" TargetMode="External"/><Relationship Id="rId7" Type="http://schemas.openxmlformats.org/officeDocument/2006/relationships/hyperlink" Target="http://en.wikipedia.org/wiki/Dvd" TargetMode="External"/><Relationship Id="rId8" Type="http://schemas.openxmlformats.org/officeDocument/2006/relationships/hyperlink" Target="http://en.wikipedia.org/wiki/Dvd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n.wikipedia.org/wiki/USB_flash_drive" TargetMode="External"/><Relationship Id="rId3" Type="http://schemas.openxmlformats.org/officeDocument/2006/relationships/hyperlink" Target="http://en.wikipedia.org/wiki/USB_flash_drive" TargetMode="External"/><Relationship Id="rId4" Type="http://schemas.openxmlformats.org/officeDocument/2006/relationships/hyperlink" Target="http://en.wikipedia.org/wiki/USB_flash_drive" TargetMode="External"/><Relationship Id="rId5" Type="http://schemas.openxmlformats.org/officeDocument/2006/relationships/hyperlink" Target="http://en.wikipedia.org/wiki/USB_flash_drive" TargetMode="External"/><Relationship Id="rId6" Type="http://schemas.openxmlformats.org/officeDocument/2006/relationships/hyperlink" Target="http://en.wikipedia.org/wiki/USB_flash_drive" TargetMode="External"/><Relationship Id="rId7" Type="http://schemas.openxmlformats.org/officeDocument/2006/relationships/hyperlink" Target="http://en.wikipedia.org/wiki/USB_flash_drive" TargetMode="External"/><Relationship Id="rId8" Type="http://schemas.openxmlformats.org/officeDocument/2006/relationships/hyperlink" Target="http://en.wikipedia.org/wiki/USB_flash_drive" TargetMode="External"/><Relationship Id="rId9" Type="http://schemas.openxmlformats.org/officeDocument/2006/relationships/hyperlink" Target="http://en.wikipedia.org/wiki/USB_flash_drive" TargetMode="External"/><Relationship Id="rId10" Type="http://schemas.openxmlformats.org/officeDocument/2006/relationships/hyperlink" Target="http://en.wikipedia.org/wiki/USB_flash_drive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hyperlink" Target="http://en.wikipedia.org/wiki/Memory_card" TargetMode="External"/><Relationship Id="rId7" Type="http://schemas.openxmlformats.org/officeDocument/2006/relationships/hyperlink" Target="http://en.wikipedia.org/wiki/Memory_card" TargetMode="External"/><Relationship Id="rId8" Type="http://schemas.openxmlformats.org/officeDocument/2006/relationships/hyperlink" Target="http://en.wikipedia.org/wiki/Memory_card" TargetMode="External"/><Relationship Id="rId9" Type="http://schemas.openxmlformats.org/officeDocument/2006/relationships/hyperlink" Target="http://en.wikipedia.org/wiki/Memory_card" TargetMode="External"/><Relationship Id="rId10" Type="http://schemas.openxmlformats.org/officeDocument/2006/relationships/hyperlink" Target="http://en.wikipedia.org/wiki/Memory_card" TargetMode="External"/><Relationship Id="rId11" Type="http://schemas.openxmlformats.org/officeDocument/2006/relationships/hyperlink" Target="http://en.wikipedia.org/wiki/Memory_card" TargetMode="External"/><Relationship Id="rId12" Type="http://schemas.openxmlformats.org/officeDocument/2006/relationships/hyperlink" Target="http://en.wikipedia.org/wiki/Memory_card" TargetMode="External"/><Relationship Id="rId13" Type="http://schemas.openxmlformats.org/officeDocument/2006/relationships/hyperlink" Target="http://en.wikipedia.org/wiki/Memory_card" TargetMode="External"/><Relationship Id="rId14" Type="http://schemas.openxmlformats.org/officeDocument/2006/relationships/hyperlink" Target="http://en.wikipedia.org/wiki/Memory_card" TargetMode="External"/><Relationship Id="rId15" Type="http://schemas.openxmlformats.org/officeDocument/2006/relationships/hyperlink" Target="http://en.wikipedia.org/wiki/Memory_card" TargetMode="External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loppy_disc" TargetMode="External"/><Relationship Id="rId3" Type="http://schemas.openxmlformats.org/officeDocument/2006/relationships/hyperlink" Target="http://en.wikipedia.org/wiki/Floppy_disc" TargetMode="External"/><Relationship Id="rId4" Type="http://schemas.openxmlformats.org/officeDocument/2006/relationships/hyperlink" Target="http://en.wikipedia.org/wiki/Floppy_disc" TargetMode="External"/><Relationship Id="rId5" Type="http://schemas.openxmlformats.org/officeDocument/2006/relationships/hyperlink" Target="http://en.wikipedia.org/wiki/Floppy_disc" TargetMode="External"/><Relationship Id="rId6" Type="http://schemas.openxmlformats.org/officeDocument/2006/relationships/hyperlink" Target="http://en.wikipedia.org/wiki/Floppy_disc" TargetMode="External"/><Relationship Id="rId7" Type="http://schemas.openxmlformats.org/officeDocument/2006/relationships/hyperlink" Target="http://en.wikipedia.org/wiki/Floppy_disc" TargetMode="External"/><Relationship Id="rId8" Type="http://schemas.openxmlformats.org/officeDocument/2006/relationships/hyperlink" Target="http://en.wikipedia.org/wiki/Floppy_disc" TargetMode="External"/><Relationship Id="rId9" Type="http://schemas.openxmlformats.org/officeDocument/2006/relationships/hyperlink" Target="http://en.wikipedia.org/wiki/Floppy_disc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Compact_disc" TargetMode="External"/><Relationship Id="rId3" Type="http://schemas.openxmlformats.org/officeDocument/2006/relationships/hyperlink" Target="http://en.wikipedia.org/wiki/Compact_disc" TargetMode="External"/><Relationship Id="rId4" Type="http://schemas.openxmlformats.org/officeDocument/2006/relationships/hyperlink" Target="http://en.wikipedia.org/wiki/Compact_disc" TargetMode="External"/><Relationship Id="rId5" Type="http://schemas.openxmlformats.org/officeDocument/2006/relationships/hyperlink" Target="http://en.wikipedia.org/wiki/Compact_disc" TargetMode="External"/><Relationship Id="rId6" Type="http://schemas.openxmlformats.org/officeDocument/2006/relationships/hyperlink" Target="http://en.wikipedia.org/wiki/Compact_disc" TargetMode="External"/><Relationship Id="rId7" Type="http://schemas.openxmlformats.org/officeDocument/2006/relationships/hyperlink" Target="http://en.wikipedia.org/wiki/Compact_disc" TargetMode="External"/><Relationship Id="rId8" Type="http://schemas.openxmlformats.org/officeDocument/2006/relationships/hyperlink" Target="http://en.wikipedia.org/wiki/Compact_disc" TargetMode="External"/><Relationship Id="rId9" Type="http://schemas.openxmlformats.org/officeDocument/2006/relationships/hyperlink" Target="http://en.wikipedia.org/wiki/Compact_disc" TargetMode="External"/><Relationship Id="rId10" Type="http://schemas.openxmlformats.org/officeDocument/2006/relationships/hyperlink" Target="http://en.wikipedia.org/wiki/Compact_disc" TargetMode="External"/><Relationship Id="rId11" Type="http://schemas.openxmlformats.org/officeDocument/2006/relationships/hyperlink" Target="http://en.wikipedia.org/wiki/Compact_disc" TargetMode="Externa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CD_RW" TargetMode="External"/><Relationship Id="rId3" Type="http://schemas.openxmlformats.org/officeDocument/2006/relationships/hyperlink" Target="http://en.wikipedia.org/wiki/CD_RW" TargetMode="External"/><Relationship Id="rId4" Type="http://schemas.openxmlformats.org/officeDocument/2006/relationships/hyperlink" Target="http://en.wikipedia.org/wiki/CD_RW" TargetMode="External"/><Relationship Id="rId5" Type="http://schemas.openxmlformats.org/officeDocument/2006/relationships/hyperlink" Target="http://en.wikipedia.org/wiki/CD_RW" TargetMode="External"/><Relationship Id="rId6" Type="http://schemas.openxmlformats.org/officeDocument/2006/relationships/hyperlink" Target="http://en.wikipedia.org/wiki/CD_RW" TargetMode="External"/><Relationship Id="rId7" Type="http://schemas.openxmlformats.org/officeDocument/2006/relationships/hyperlink" Target="http://en.wikipedia.org/wiki/CD_RW" TargetMode="External"/><Relationship Id="rId8" Type="http://schemas.openxmlformats.org/officeDocument/2006/relationships/hyperlink" Target="http://en.wikipedia.org/wiki/CD_RW" TargetMode="Externa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měťová mé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EB9-95E2-47DA-AE03-264586D3E1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V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8920" y="1557360"/>
            <a:ext cx="607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pa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,7 GB (příp. 8,5 GB dvouvrstv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vedení na t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a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Kč (příp. 165 Kč dvouvrstv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žnost RW verze – obdobné jako u C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1800" y="5013360"/>
            <a:ext cx="10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700000">
            <a:off x="4140360" y="5013000"/>
            <a:ext cx="1008000" cy="1008000"/>
          </a:xfrm>
          <a:prstGeom prst="plus">
            <a:avLst>
              <a:gd name="adj" fmla="val 4417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2880" y="4653000"/>
            <a:ext cx="287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nadný zápis a pře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ence k poškráb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uchy při zapis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každý počítač je přeč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7305120" y="3176280"/>
            <a:ext cx="33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5940360" y="620640"/>
            <a:ext cx="2376720" cy="22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077-9D99-407C-AA83-40F8EFC358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27261" r="0" b="26417"/>
          <a:stretch/>
        </p:blipFill>
        <p:spPr>
          <a:xfrm>
            <a:off x="395280" y="1600200"/>
            <a:ext cx="8353440" cy="32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1C55-EFBA-4538-9789-6F4E25F821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4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USB disky (flash paměti, USB klíčenk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1628640"/>
            <a:ext cx="297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pacita - přibliž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MB – 2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vedení na t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a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- 12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5600" y="4653000"/>
            <a:ext cx="24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dný zápis a pře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zporucho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700000">
            <a:off x="3923640" y="4581360"/>
            <a:ext cx="1368720" cy="1368360"/>
          </a:xfrm>
          <a:prstGeom prst="plus">
            <a:avLst>
              <a:gd name="adj" fmla="val 4417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8320" y="4653000"/>
            <a:ext cx="27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ě menš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92720" y="765000"/>
            <a:ext cx="3429000" cy="2857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6200000">
            <a:off x="6658920" y="317628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USB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lash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_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DB4-B07F-4BB6-BCC7-A8A3E227DB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39640" y="260280"/>
            <a:ext cx="8209080" cy="5761080"/>
            <a:chOff x="539640" y="260280"/>
            <a:chExt cx="8209080" cy="5761080"/>
          </a:xfrm>
        </p:grpSpPr>
        <p:sp>
          <p:nvSpPr>
            <p:cNvPr id="89" name=""/>
            <p:cNvSpPr/>
            <p:nvPr/>
          </p:nvSpPr>
          <p:spPr>
            <a:xfrm>
              <a:off x="684360" y="404640"/>
              <a:ext cx="8064360" cy="5545440"/>
            </a:xfrm>
            <a:custGeom>
              <a:avLst/>
              <a:gdLst/>
              <a:ahLst/>
              <a:rect l="l" t="t" r="r" b="b"/>
              <a:pathLst>
                <a:path w="5080" h="3493">
                  <a:moveTo>
                    <a:pt x="453" y="0"/>
                  </a:moveTo>
                  <a:lnTo>
                    <a:pt x="1134" y="0"/>
                  </a:lnTo>
                  <a:lnTo>
                    <a:pt x="1678" y="499"/>
                  </a:lnTo>
                  <a:lnTo>
                    <a:pt x="2585" y="544"/>
                  </a:lnTo>
                  <a:lnTo>
                    <a:pt x="2630" y="771"/>
                  </a:lnTo>
                  <a:lnTo>
                    <a:pt x="3402" y="816"/>
                  </a:lnTo>
                  <a:lnTo>
                    <a:pt x="3447" y="1451"/>
                  </a:lnTo>
                  <a:lnTo>
                    <a:pt x="4173" y="1542"/>
                  </a:lnTo>
                  <a:lnTo>
                    <a:pt x="4218" y="1860"/>
                  </a:lnTo>
                  <a:lnTo>
                    <a:pt x="5034" y="2449"/>
                  </a:lnTo>
                  <a:lnTo>
                    <a:pt x="5080" y="2767"/>
                  </a:lnTo>
                  <a:lnTo>
                    <a:pt x="3946" y="3493"/>
                  </a:lnTo>
                  <a:lnTo>
                    <a:pt x="3311" y="2767"/>
                  </a:lnTo>
                  <a:lnTo>
                    <a:pt x="2585" y="2767"/>
                  </a:lnTo>
                  <a:lnTo>
                    <a:pt x="2540" y="2223"/>
                  </a:lnTo>
                  <a:lnTo>
                    <a:pt x="1587" y="2268"/>
                  </a:lnTo>
                  <a:lnTo>
                    <a:pt x="1496" y="1678"/>
                  </a:lnTo>
                  <a:lnTo>
                    <a:pt x="816" y="1542"/>
                  </a:lnTo>
                  <a:lnTo>
                    <a:pt x="0" y="862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2000" y="4365720"/>
              <a:ext cx="1008360" cy="934920"/>
            </a:xfrm>
            <a:prstGeom prst="wedgeRectCallout">
              <a:avLst>
                <a:gd name="adj1" fmla="val 36300"/>
                <a:gd name="adj2" fmla="val -13471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Secure Digital (S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56000" y="260280"/>
              <a:ext cx="1584360" cy="647640"/>
            </a:xfrm>
            <a:prstGeom prst="wedgeRectCallout">
              <a:avLst>
                <a:gd name="adj1" fmla="val -40379"/>
                <a:gd name="adj2" fmla="val 117648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Memory Stick (M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9640" y="3213000"/>
              <a:ext cx="1440000" cy="863640"/>
            </a:xfrm>
            <a:prstGeom prst="wedgeRectCallout">
              <a:avLst>
                <a:gd name="adj1" fmla="val 27620"/>
                <a:gd name="adj2" fmla="val -17150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MultiMedia C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(MM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04000" y="836640"/>
              <a:ext cx="1511280" cy="1297080"/>
            </a:xfrm>
            <a:prstGeom prst="wedgeRectCallout">
              <a:avLst>
                <a:gd name="adj1" fmla="val -77523"/>
                <a:gd name="adj2" fmla="val 102143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xD Card (pouze Olympus a Fuj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042920" y="333360"/>
              <a:ext cx="7232400" cy="5109840"/>
              <a:chOff x="1042920" y="333360"/>
              <a:chExt cx="7232400" cy="5109840"/>
            </a:xfrm>
          </p:grpSpPr>
          <p:pic>
            <p:nvPicPr>
              <p:cNvPr id="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52280" y="1905840"/>
                <a:ext cx="2047320" cy="172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42920" y="333360"/>
                <a:ext cx="2047320" cy="208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58360" y="962280"/>
                <a:ext cx="2047320" cy="208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67720" y="2928960"/>
                <a:ext cx="1780920" cy="150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228000" y="3716280"/>
                <a:ext cx="2047320" cy="1726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"/>
            <p:cNvSpPr/>
            <p:nvPr/>
          </p:nvSpPr>
          <p:spPr>
            <a:xfrm>
              <a:off x="4427640" y="5229360"/>
              <a:ext cx="1511280" cy="792000"/>
            </a:xfrm>
            <a:prstGeom prst="wedgeRectCallout">
              <a:avLst>
                <a:gd name="adj1" fmla="val 68277"/>
                <a:gd name="adj2" fmla="val -91884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Compact Flash (C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C4F-29E3-4AFB-A847-D3622A81E0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43280" y="333360"/>
            <a:ext cx="4465800" cy="3166920"/>
          </a:xfrm>
          <a:custGeom>
            <a:avLst/>
            <a:gdLst/>
            <a:ahLst/>
            <a:rect l="l" t="t" r="r" b="b"/>
            <a:pathLst>
              <a:path w="5080" h="3493">
                <a:moveTo>
                  <a:pt x="453" y="0"/>
                </a:moveTo>
                <a:lnTo>
                  <a:pt x="1134" y="0"/>
                </a:lnTo>
                <a:lnTo>
                  <a:pt x="1678" y="499"/>
                </a:lnTo>
                <a:lnTo>
                  <a:pt x="2585" y="544"/>
                </a:lnTo>
                <a:lnTo>
                  <a:pt x="2630" y="771"/>
                </a:lnTo>
                <a:lnTo>
                  <a:pt x="3402" y="816"/>
                </a:lnTo>
                <a:lnTo>
                  <a:pt x="3447" y="1451"/>
                </a:lnTo>
                <a:lnTo>
                  <a:pt x="4173" y="1542"/>
                </a:lnTo>
                <a:lnTo>
                  <a:pt x="4218" y="1860"/>
                </a:lnTo>
                <a:lnTo>
                  <a:pt x="5034" y="2449"/>
                </a:lnTo>
                <a:lnTo>
                  <a:pt x="5080" y="2767"/>
                </a:lnTo>
                <a:lnTo>
                  <a:pt x="3946" y="3493"/>
                </a:lnTo>
                <a:lnTo>
                  <a:pt x="3311" y="2767"/>
                </a:lnTo>
                <a:lnTo>
                  <a:pt x="2585" y="2767"/>
                </a:lnTo>
                <a:lnTo>
                  <a:pt x="2540" y="2223"/>
                </a:lnTo>
                <a:lnTo>
                  <a:pt x="1587" y="2268"/>
                </a:lnTo>
                <a:lnTo>
                  <a:pt x="1496" y="1678"/>
                </a:lnTo>
                <a:lnTo>
                  <a:pt x="816" y="1542"/>
                </a:lnTo>
                <a:lnTo>
                  <a:pt x="0" y="862"/>
                </a:lnTo>
                <a:lnTo>
                  <a:pt x="453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měťová k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3960" y="1628640"/>
            <a:ext cx="341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pacita přibliž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MB – 2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vedení na t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2 90.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a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– 6000 (orientačn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6520" y="4508640"/>
            <a:ext cx="156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ych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lehl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é rozmě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acita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2700000">
            <a:off x="3995280" y="4724280"/>
            <a:ext cx="1297080" cy="1297080"/>
          </a:xfrm>
          <a:prstGeom prst="plus">
            <a:avLst>
              <a:gd name="adj" fmla="val 4417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11600" y="4365720"/>
            <a:ext cx="265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i použití bez na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oaparátu nutné použí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te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acita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46680" y="446040"/>
            <a:ext cx="3952440" cy="2941200"/>
            <a:chOff x="4846680" y="446040"/>
            <a:chExt cx="3952440" cy="29412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6327360" y="1351080"/>
              <a:ext cx="111888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4846680" y="446040"/>
              <a:ext cx="111888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5565600" y="808200"/>
              <a:ext cx="111888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7046280" y="1940040"/>
              <a:ext cx="973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5"/>
            <a:stretch/>
          </p:blipFill>
          <p:spPr>
            <a:xfrm>
              <a:off x="7680240" y="2393280"/>
              <a:ext cx="1118880" cy="9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 rot="16200000">
            <a:off x="6810480" y="3312720"/>
            <a:ext cx="43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en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Memory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51A-C1FF-4BB7-9E90-AB40BA68E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9680" y="4076640"/>
            <a:ext cx="551196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5493600" y="2362680"/>
            <a:ext cx="4349520" cy="24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1800" y="404640"/>
            <a:ext cx="392112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382920" cy="1987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3244680"/>
            <a:ext cx="5040000" cy="3613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867280" y="1700280"/>
            <a:ext cx="3598920" cy="3867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3068640"/>
            <a:ext cx="1800000" cy="719280"/>
          </a:xfrm>
          <a:prstGeom prst="wedgeRectCallout">
            <a:avLst>
              <a:gd name="adj1" fmla="val 40652"/>
              <a:gd name="adj2" fmla="val -11755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ální fotoapar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333360"/>
            <a:ext cx="2305080" cy="647640"/>
          </a:xfrm>
          <a:prstGeom prst="wedgeRectCallout">
            <a:avLst>
              <a:gd name="adj1" fmla="val 41324"/>
              <a:gd name="adj2" fmla="val 146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ytrý“ mobilní tele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3068640"/>
            <a:ext cx="1297080" cy="720720"/>
          </a:xfrm>
          <a:prstGeom prst="wedgeRectCallout">
            <a:avLst>
              <a:gd name="adj1" fmla="val -45226"/>
              <a:gd name="adj2" fmla="val 1004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 přehrá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680-5E4F-430C-BCF9-3CC29061C9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ž brz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Blue 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paci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ca 50-200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Uvedení na tr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na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tím nestanov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1466640" cy="146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8800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D DV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paci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a 15-90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vedení na tr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a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tím nejas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04000" y="1197000"/>
            <a:ext cx="1428840" cy="14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9040" y="566100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en.wikipedia.org/wiki/Blue_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566100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en.wikipedia.org/wiki/HD_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73A-6450-45EF-A52B-4ADE36CDF0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na co použí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sketa – nouzový přenos opravdu malých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 – hudba, filmy, fotky, velké dokum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VD – hudba, filmy, fotky, velké dokume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SB paměť (flash) – rychlý přenos malých a středně velkých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měťové karty – fotoaparáty, mobily, MP přehrávače, se čtečkou přenos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A54-D881-4C32-A370-8D6809386A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nutí (zjednoduše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28560" y="2057400"/>
          <a:ext cx="7886880" cy="14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2057400"/>
                    <a:ext cx="78868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3"/>
          <a:srcRect l="5632" t="12595" r="10698" b="11808"/>
          <a:stretch/>
        </p:blipFill>
        <p:spPr>
          <a:xfrm>
            <a:off x="2916360" y="3645000"/>
            <a:ext cx="792000" cy="76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371840" y="3594240"/>
            <a:ext cx="94788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724360" y="3573360"/>
            <a:ext cx="946440" cy="912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rcRect l="0" t="27261" r="0" b="26417"/>
          <a:stretch/>
        </p:blipFill>
        <p:spPr>
          <a:xfrm>
            <a:off x="7236000" y="3789360"/>
            <a:ext cx="1081080" cy="41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6948360" y="4869000"/>
            <a:ext cx="1882800" cy="105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167-96D8-4050-9FD9-6286D9829C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de hledat další inform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wikipedia.com -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doporuču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netové obchody (www.alzasoft.cz, www.czechcomputer.cz a mnoho další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dvdforum.org/forum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ttp://www.blu-ray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 internetové strá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EF6-6F68-4AC3-9A46-DB120CD0CD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nosová a ukládací mé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 si pod tím představit? CD, DVD, diskety, USB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šechna tato zařízení ukládají data (dokumenty, obrázky, hudbu…) ve formě jedniček a nul – proto jsou média univerz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F61-71D4-411E-A9DE-695C4091E0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5632" t="12595" r="10698" b="11808"/>
          <a:stretch/>
        </p:blipFill>
        <p:spPr>
          <a:xfrm>
            <a:off x="2050920" y="620640"/>
            <a:ext cx="5329440" cy="518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2000" y="436572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51C-5BF8-47E3-AEBF-5C2BFD90B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keta (3,5“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2880" y="1628640"/>
            <a:ext cx="309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pa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 kb neb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4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vedení na t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a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7240" y="4797360"/>
            <a:ext cx="24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dný zápis a pře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700000">
            <a:off x="3995640" y="4797360"/>
            <a:ext cx="1224000" cy="1224000"/>
          </a:xfrm>
          <a:prstGeom prst="plus">
            <a:avLst>
              <a:gd name="adj" fmla="val 4417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3600" y="4941720"/>
            <a:ext cx="222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lmi malá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ucho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451" t="12637" r="10305" b="11632"/>
          <a:stretch/>
        </p:blipFill>
        <p:spPr>
          <a:xfrm>
            <a:off x="6084720" y="1268280"/>
            <a:ext cx="2232360" cy="21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6899760" y="3007800"/>
            <a:ext cx="41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Floppy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i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846-33A2-4F77-A688-65CC895AC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5051160" cy="487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7F5-1C90-4D0C-83FB-88351CB10A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05200" y="17622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6143040" y="2898360"/>
            <a:ext cx="56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gr.msu.edu/cmsc/esem/gallery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D40-36AC-4C52-AC6B-B2132098B2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pact Di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1800" y="1628640"/>
            <a:ext cx="258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pa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0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8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vedení na t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a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7440" y="5157720"/>
            <a:ext cx="10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700000">
            <a:off x="4067280" y="4941720"/>
            <a:ext cx="1224000" cy="1224000"/>
          </a:xfrm>
          <a:prstGeom prst="plus">
            <a:avLst>
              <a:gd name="adj" fmla="val 4417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5960" y="4941720"/>
            <a:ext cx="26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nadný zápis a pře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ence k poškráb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uchy při zapis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3178080" cy="306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6200000">
            <a:off x="6785280" y="3193920"/>
            <a:ext cx="43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pact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_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i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372-1207-4BF4-A5E2-FEC39F9FE0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episovatelný Compact Disc CD-R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440" y="2276640"/>
            <a:ext cx="229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pa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vedení na t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a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6000" y="5084640"/>
            <a:ext cx="204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ýhody proti C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pisov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zatel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700000">
            <a:off x="4210920" y="4941720"/>
            <a:ext cx="1151280" cy="1150920"/>
          </a:xfrm>
          <a:prstGeom prst="plus">
            <a:avLst>
              <a:gd name="adj" fmla="val 4417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7600" y="4941720"/>
            <a:ext cx="24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všechna za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sou schopna CD-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řečí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279960" cy="348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16200000">
            <a:off x="7089480" y="317628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CD_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081-D68B-4827-BD7D-F2298C34FC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5337360" cy="514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9F8-2387-47F1-BE06-BD91D716AE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12:51:19Z</dcterms:created>
  <dc:creator>JB</dc:creator>
  <dc:description/>
  <dc:language>en-US</dc:language>
  <cp:lastModifiedBy>JB</cp:lastModifiedBy>
  <dcterms:modified xsi:type="dcterms:W3CDTF">2006-08-14T12:42:07Z</dcterms:modified>
  <cp:revision>18</cp:revision>
  <dc:subject/>
  <dc:title>Předvýjezdový kurs</dc:title>
</cp:coreProperties>
</file>